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23695"/>
        <c:axId val="1254430"/>
      </c:barChart>
      <c:catAx>
        <c:axId val="46123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4430"/>
        <c:crosses val="autoZero"/>
        <c:auto val="1"/>
        <c:lblAlgn val="ctr"/>
        <c:lblOffset val="100"/>
        <c:noMultiLvlLbl val="0"/>
      </c:catAx>
      <c:valAx>
        <c:axId val="1254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23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559-BC13-4701-94C7-3BBFA1E2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E95-D390-4C1A-8323-6CF59649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282-1F25-40DB-9F35-0E2BD456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46E-8E4E-45C7-9BE7-BC032B3E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3E6-7465-4AC1-9DB5-7898C6F3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F34-1987-4706-870A-9799CD6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190-EBF1-4E84-A2DC-2F1A48B7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541-EFDE-4E61-B386-EB0B29ED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34F-5E2E-4034-AB63-ECA8D096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B25-60F2-4193-AA0C-B17D615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959-9CA7-42EA-9C12-FEDEC13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CC5-06CD-4E57-A1C6-CC8C3A3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01F0E-D264-42EE-83C7-1D3A51B473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