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19858"/>
        <c:axId val="69377"/>
      </c:barChart>
      <c:catAx>
        <c:axId val="34919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7"/>
        <c:crosses val="autoZero"/>
        <c:auto val="1"/>
        <c:lblAlgn val="ctr"/>
        <c:lblOffset val="100"/>
        <c:noMultiLvlLbl val="0"/>
      </c:catAx>
      <c:valAx>
        <c:axId val="693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19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8B0-EBA1-48A8-A1DD-5E8B3309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ECD-9A4D-400F-B68E-A76E4CD9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DD6-8286-4DA7-84F1-510F847E3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C4C-1027-4473-8425-DF8D2801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62C-3574-495D-9ABD-3C3F8698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5DA0-C95A-4D57-A2FA-D6CB3B60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14FB-5CDA-475D-9B6C-5EADC5E3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57B-D502-4133-B6B9-33CE2A38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BCB2-C113-4F31-963F-8642C2A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BB9-E741-4DF2-9D34-590267D1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3866-31D3-4981-A41E-4080A41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2EE6-486E-4D18-953E-0953C976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92C79-092F-4F35-B694-6AEAC6150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